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61AE-5503-4C1D-8051-CF4FF002B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E0C3-EC42-4314-9184-55BAC26ED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7302D7-57D2-443A-B382-EF1DB567B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2AA3DA-7B60-4253-9D3C-BD2FE17DB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A724DF-9259-4E01-9230-930C7D4EB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62A0AB-1452-41D9-84EC-D11D953FF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2A02C1-D664-48BE-8A2A-BEC5492F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AF0F32-9B3F-4A67-ADD0-3F308AE6D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36051F-237A-4388-A9D3-AABBD55CC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C2D51C-6B6C-4ED9-BF5E-9620F2F0A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51D3B3-3EE3-41E0-86D8-6248A0E5D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FD17BC-851E-4A71-ABE2-176D60332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C609-CBC3-430F-B10D-30A68017D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5CC3B3-F82D-4B40-9E08-E789E0955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DE469D-F82F-4B7A-AD91-AC0C7C123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699BAF-344D-4358-8762-07AABF720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F261BA-57B2-4AE3-95E6-AC2C2E53B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3BE798-BFF5-4B4A-A320-02A4771A9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D11F47-D012-4E4C-AAF8-122D9053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1D1D4D-60A6-42F4-9C2A-E0B26B5C8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A72D56-882C-4D42-976C-2FE080297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AD5CBF-02A6-4CE0-9976-B5399D962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C92EA1-B349-4580-AF37-6BF037C41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3269-F9D8-4DA8-8E8D-F27C2488F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9F8A84-1C31-4287-88C5-E10BB35FB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DFB75B-1F95-4479-B106-8F23F746C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0F392F-53CB-46C7-AB4B-C129FF9E9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AA287F-225E-489C-BBA0-C7CA10275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A23CED-02C2-4174-B619-C74A6854A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81E2EB-66D7-42E8-9620-4AE2551C9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14F7CB-26F5-4F95-B838-8DDADCB24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185EE6-E9C8-413E-843B-BD5115D7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FC30A8-6D90-4958-8C60-555181EB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B77F1A-42EF-4AF7-8E30-21E8A5D6A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F7955-55C5-415D-A64C-54EB751BC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1803ED-7A54-47CF-A8D5-EDF44803D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C2A64E-F761-4C44-A3A2-791A9E85F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1B582C-4293-4857-B821-06727FF52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682CF8-52D5-4967-9AE8-474B9BD6D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D66A8F-393C-4C11-8611-64F4DAC7B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0FB9AF-95E4-41C3-853D-8E3490AA3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271058-EF5D-430C-90EF-3BF20E208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2731EF-4F26-49C9-81FE-96203E0EC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7C69D0-5DC2-4CA0-A0F4-D80279253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CAC825-D606-462D-B577-59655D28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7DD13-E3A2-47EF-8D0E-B6CF8ABD6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71147F-9F3E-4DFA-BCC5-4B613C60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6E4D1B-F47F-4443-8746-ADD848590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F8EE37-01F2-44FE-B6AB-F8316F3FE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62EF58-2BFC-4E78-A6E6-755CA22E7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9EB22E-124F-473C-B570-2D64A5779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233BF5-B78E-49A4-A471-FF7DA2DD2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ACAF3F-6CB6-496A-A517-EE7E8079A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0D9B4F-8FB2-404C-BE4B-1898C4F5B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43EA77-0280-4C58-B378-6D168E5E5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20A869-E84F-44DD-9B8A-86B3F9CEE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40A7A-144B-480A-AF3D-369C54904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EC5CE7-001A-42F6-963F-D4E44151F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3EBDAD-37FE-4B05-8933-4C5E76E6D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E51021-0E04-47EF-896E-B6A64089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1BB9C9-B415-4EEB-AB4A-DDB0EAE6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32110A-C85F-43A1-9011-E62429349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E2E43A-C9E1-463E-AD62-EF50CBFC6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6F15CF-89F1-4559-B7D1-1AD612E7E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4963AF-7531-421C-9A9D-9C8A946B2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6D0803-856A-4805-8B7C-95C801CC9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1B5493-46B0-4DAC-9554-91BAFF4F2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3CC82-D71D-4F14-8D5B-7A744E00A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A506D5-EABE-4FD9-ABE5-9E0D03C68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F7DCEC-41D7-4ED9-820F-972B7457E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F90F6E-C736-463B-ACE7-75CDFCFE9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90FE0D-50C0-4CB0-AA5C-CE0C049A1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84BE89-A357-4621-8154-EBA3CCC8B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14B059-5939-4C18-87A0-08C7EE89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9691C8-B311-4F67-8596-81425FBA0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375AB7-49A1-4113-889A-18504269F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C20324-8398-437B-B546-7E3528914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B00299-B61C-448A-B87C-BB1E34D4D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35877-5AEF-4DB2-A8EB-14B2F4BD3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8D95CA-CEDE-4146-AE91-DD4D1CC1C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B8EFDE-6D0F-49C0-BBA5-CFDF55184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E7CC2B-10BB-4F62-92A8-6C10BD503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72B3B8-6D66-4FF3-9010-3CAA76C94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DD72B5-2684-4E6A-81A4-47C7ACFCB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58E8BE-16F9-4263-9D84-CB24D6BA1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6E79B6-3003-4484-B261-BF820F4D2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2D2DAE-7416-4A07-B338-12DD23861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3600EC-5EA7-4BD9-AC78-EFFE2FEA9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68A406-BB52-4BBF-A642-59C8C3D13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71A84-A63D-40D0-A56F-6260F13ED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D6C0EC-E1DD-488F-929D-9867CDDCF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116BFF-1C2C-49AB-852A-DA879E665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6337A7-57D5-4295-9283-C93B49455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9DB3BA-CAC7-46B0-A0FE-3F4D994C1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201CEE-D8AE-404A-B95D-A0A0A1DDC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053B5E-1C6F-4F89-8E5D-552E84977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284BB4-54AF-47F7-AA5A-7ADE76866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BCD73C-47C7-44F5-9919-EEE79ED2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F568C2-3E5B-4FD4-8F1D-A73A5EA2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F31EAD-602D-478A-951C-CA95A654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C34F8-E48D-41CE-AC32-9CB710B3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072B61-2919-4741-A234-F230EDCC3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242228-98D7-481E-9C57-BDFC00CFD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C6A240-8F3B-4DA3-A085-75082E299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839FAA-FB7B-4096-97C7-AA1822582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251517-CB94-47E0-8150-DD55770D5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8EC626-7AFD-4173-AD6F-4CBE1D0D0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E12501-32AD-44AD-AF71-F513B913E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BAB26C-3106-4AAD-A6E0-1EA275FD2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E1F9AF-0CE2-4270-89A6-0478CE01B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5675D1-270A-4BDF-B096-0F2E1812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078E-67B8-4D2A-B128-A6B66EBB6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3D885-98E8-4161-8186-614C9409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2F6383-6F82-4647-8A9E-ED221DD7F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86D2E9-3BEE-499E-9084-981340329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3085EB-BB1F-4A0E-9728-2A9AD4FDF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3234B6-809C-46D6-B8DC-3DC2ECFDB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85EADC-226B-473D-B32D-FD03CE808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235750-8572-4250-BD4F-9F78F7235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304AC0-DC6C-4EB9-9F0B-3819CEC43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5247D1-72DA-411F-B75D-63562BF12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2AD403-7A5F-4096-B840-03B00CDEF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FCD0FE-ABDD-45A5-A0C2-7E6F3C41F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7D050-91E2-4575-8063-4FB10580D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F7532E-7B3E-478A-9341-12BD34370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47DA9C-354B-44FC-956C-489E2E1A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5CFA47-27DC-4FF6-AABB-C5DDD1403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5F6872-9E37-4FA4-9A1D-4C8A6C492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2841BC-0760-4CBF-9CC1-1BD3F85B7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DB963D-9B18-4FBB-AC29-DE5481766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4A6CAF-D93F-4AFD-8A74-70BC81F53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E0BC27-BF29-4AA7-8913-4B3FB4EC0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49B81B-9CD0-4EAE-9843-088B25690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B669CE-C10B-4BE1-86F6-13F539661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FB160-2E20-46ED-8C08-0E0ECE308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BD822C-E058-4C08-9FCF-9672FBF2D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AE0AA5-F654-4AAD-9D44-F785B17B9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2539E3-02C0-4BC4-9910-51E60A554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2F90BF-B73E-450F-9F85-EE66994D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762C4A-CD74-44AE-94E3-9143B302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03DD2E-64F9-45B6-95B7-888E438D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DA6DE5-D1D8-49E3-B5DC-2E9BB1EB9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5647E2-C509-426C-8661-D1E466700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8922BA-978A-485E-BB70-5E902A777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48F535-2D79-4379-AD57-4255843F6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B6900-12C8-445F-A2A0-6EF9223B6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D6C4C5-1378-4933-9A90-07BE40920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0FD5E2-9460-4C3C-B037-85DD8064C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964458-A6E7-433D-8584-E0E5A2091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7C08D3-C3C7-4D90-8B40-DE11A46A3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710CA6-2DD4-471F-AAE4-AEDF93B21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92A851-CEF7-4CD3-8945-5158EAFEB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F4E8C9-B796-44B3-AD67-3741A8B2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E791EA-FC1E-470D-BC93-3BF6DF53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850BC0-A17B-44C4-877A-744A46B13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268F3F-5CD5-4683-828B-948B2EEC2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FBCD1-0BBB-45F0-8065-0304ACCA3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A30C0D-CC6F-4231-B762-BF91A1CEB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16D287-DF44-4274-A3C4-11B28BAE7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DAF00D-5D0B-4671-8496-49A1B8A81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63F2E9-2528-4045-8B9B-5E3D298C1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879D3E-BC33-4928-B6C0-FF6A7BFA8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9A3B68-177E-4C93-B8A9-A00673094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25D9D0-4BA5-4A51-8668-9CE2C54F7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D4AE81-29EC-44EB-8FE2-15B70A832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B61847-6C42-49D7-A4EE-6E1CE5E81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28D976-8787-4F30-90BE-BB7708E1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A9180-1E3B-4361-9EAC-2C725E974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BF9B30-8819-43D4-8725-C3FBB89C9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DF68C8-CB20-4AC4-9909-CE8D3F195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17F66C9-F9AF-43A7-9E70-805F79FAD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D2026-C460-4E93-B0E8-F6CB787A2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C99F5-FB76-4D0D-9EB1-A49E40B37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5C555-AE77-4047-8314-3A1DB39B7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6233A-DA95-499C-8302-B7722427E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CB49-2D9F-42F1-A02F-CD9FF21D1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B7E76-C284-4AF9-9F39-629BF0057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5D6EF-CF6F-4A8A-992F-90A77431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C9090-04D0-4635-93DC-A36D133A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DE1E8-320A-4A04-AF57-99FDB9F91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A4200-FA37-4F32-AF0B-527740EFD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CA58C-E872-4FAA-8607-70DABC1EE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B894B-EF1F-4612-9D06-EC63D9C57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EF950-9977-407F-973E-549E97BA7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FB76A-4163-4922-9627-9D54713BD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2A4A3-DDCE-4BA1-8210-FC44C242B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E0B8-DAFF-47FA-8555-81AA42476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8DC86-5939-4FE5-B3C5-7BF494B66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1C679-4525-4F56-B645-CF2DEC82B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14D96-71B1-4E24-9676-26AC02CF3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C5B1C-6AC7-43A6-B8C5-6D85BC55C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FEA58-21E2-4297-AA14-0912D8A8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230BE-4F70-45F3-8AB2-F8925027C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74233-D645-4319-BEC8-3EDF5D486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61755-C4BB-4AD4-A899-89F6DEC2F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89F49-3176-460E-B0FD-4C865DDB5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68DAD5-B7D1-40BE-B883-23B95B69B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9FBD-007E-4365-A076-CC6088C1C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E3947C-62D1-49AF-9B10-0D7052FF7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ADAA4-8E0A-412E-8F88-E5D7799C3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F5891-5DA6-407B-A08F-025009122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603EA-5487-4687-8B6A-4E662CBA2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FC8169-31E4-40E3-9626-AC0E3E582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7D9F3-58EE-4866-A02F-5E6B4D123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E9176A-86AB-4455-BD52-E503985F3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F3C516-E26B-4E7B-8A23-B2B843C8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9FE92-D06E-48EF-87FE-A691F074E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027960-1E62-445F-B5F6-3CA7C8CE2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4897-6280-443A-B1D4-E685DBDA9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91CC68-FCB5-42F8-9447-E08D8C442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C28EF1-4442-44AC-97AD-E0662D6B2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DCC1D0-C907-4E4C-A595-301ED85FA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BC8604-CEDC-49AF-829D-FE5523083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580F8C-F7E5-4D5A-8F55-A32422D20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9505B9-6576-425C-AF4A-228D292F8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DB676A-5312-4AAB-970F-B31492508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87B801-0F51-4889-99C5-127AFEFD5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F8B0B-9FCA-4E86-840E-9EBF46FD1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DBF4D0-EA34-4BD6-933F-C1554AA8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4B20-D1BC-4461-B833-89636E56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2DE917-91A5-498F-A67D-DB2565A4E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4E103D-B432-450C-B4DB-17765604B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3AE213-3F99-42D4-8F81-505B3B0D7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07F0B3-76C5-4572-84C5-FFBE038AA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316059-3AEC-4A55-967D-D92173362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8314AE-B72E-4E3E-9ABF-1A801A194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E82979-8C17-4B4F-8B02-2D601D2E3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BACD56-CE52-405A-A7C8-9698E5F0A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D8A5DA-CB25-4E27-AA3D-6B7E2A4BE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E1F197-8D13-4334-B327-482C6ECEC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31FD-D11D-4019-B1FD-EC8D68441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4E4B81-1CDF-4600-998E-13B4D16E0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E3D125-1CCA-4178-BA84-D9B12B3F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FC37F9-F4C8-425E-88B8-B6CF01676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2827A4-2B83-4FA4-90FF-83B08E3ED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8D5146-41D6-4855-9D7D-DECE6A280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A85F00-D248-4C32-BDDB-F07978D50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BC8EB7-0B7F-4722-AA3C-EFA850893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2F68B9-ABB2-4AD2-8949-179DD44F3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9DA3E6-376B-4DDE-80A1-A16E90E52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823678-5476-4FBE-826A-9316125EC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8737-9B28-4A20-AF90-C535C4E2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EEB0CA-4927-4543-8100-F10DCE211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13B630-B87B-4F34-B7B5-0894B096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18C9C9-9512-4B0D-AA39-0DB6B5ABF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B080A1-A2C9-431D-9144-8549E5791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B9A186-1111-4D9C-B8CD-F04A8C593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2865F2-BBB4-42AC-98A4-0A1F56B56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736445-4277-46B7-BF40-9B7FB606C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B785F9-657C-4F4E-B5F0-00A0720FC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6E4532-C0EE-42C2-B76B-1BA90EB1B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907A42-E28D-40F2-A8D5-5B727B2AF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DC003-36F5-419C-BAE5-FDC0A8F8EB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E4E13-C784-4149-830C-2EC425598E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E4572-EA66-4FD1-8739-7468A6DE07A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B24F1-708B-4349-A923-4DCA1359E06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3DE0A-E937-4148-AFD8-7BCA3996EFB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FA338-6E09-4DEA-AF7A-DFD1A478BB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DB4ED-2FFB-4935-B37C-A5C755D8A53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167BA-563D-40B4-88A9-74981F5B730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AC99A-4DBE-4801-A750-94E4815838C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F79B8-04D6-4B62-8F18-4561DB9A935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5F187-03B1-4F8F-A152-35D7156FE81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58413-0DDA-459A-ABB3-A883558EBD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595CA-64F3-4C55-9FEA-276C877DF60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B188B-15CB-415E-BF13-E06E368BA9E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915C9-D394-468B-8BC3-66C21E2AD9A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DDF45-5976-403E-AAFE-8EC6870826E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479CB-CF7F-4C69-BE44-20D414AB183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30007-1E36-42F8-AF48-7D605C610CB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A7EF6-5EFB-4B12-BB3A-5962544904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E8B53-80FE-4CDB-A4F0-773F25C156B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373DC-E980-4AC1-A7F4-A4B0CD334BF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DAA92-4BE1-4887-A73C-F351B1F8907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8B791-237D-40DE-9E88-5280C98442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A2670-6104-46E9-9476-4B579D2847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2BAFA-98D9-455B-AE02-1E0A82E5A4F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37811-C5E4-4999-9EF3-F026EE0FD3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B2321-B648-4816-94D3-6EA3EB60C7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89FD4-5A07-403F-BD8C-4570733746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A66FC-C7AD-4E58-BD3A-7F7956F57E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47229-32A4-4FDD-96CA-4DE5A754EF1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42D8A-7FA5-4B79-BE82-08C3A98B04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6295D-D1C8-4373-9EE4-8636B2334A7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6BD30-E391-4480-BE9E-BBEC565CC0A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41A87-7C18-4872-8C68-A20E6C54527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B7998-EAFC-4B7B-8466-32E78C1104F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7C319-6FED-4FA7-B112-6A1A4F16FFE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2C25B-7D14-4057-A2ED-B0E179DFC5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B36B5-E128-4A91-8240-6486CB6F22F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93350-0601-4FE2-9BF9-280E9AA7A0F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7393D-C9F2-46C5-A4CB-D775FE7F24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Picture 1" descr=""/>
          <p:cNvPicPr/>
          <p:nvPr/>
        </p:nvPicPr>
        <p:blipFill>
          <a:blip r:embed="rId1"/>
          <a:stretch/>
        </p:blipFill>
        <p:spPr>
          <a:xfrm>
            <a:off x="1819440" y="3143160"/>
            <a:ext cx="5681520" cy="5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Picture 1" descr=""/>
          <p:cNvPicPr/>
          <p:nvPr/>
        </p:nvPicPr>
        <p:blipFill>
          <a:blip r:embed="rId1"/>
          <a:stretch/>
        </p:blipFill>
        <p:spPr>
          <a:xfrm>
            <a:off x="114480" y="738360"/>
            <a:ext cx="8915400" cy="609588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4" descr=""/>
          <p:cNvPicPr/>
          <p:nvPr/>
        </p:nvPicPr>
        <p:blipFill>
          <a:blip r:embed="rId2"/>
          <a:stretch/>
        </p:blipFill>
        <p:spPr>
          <a:xfrm>
            <a:off x="1428840" y="1971720"/>
            <a:ext cx="379440" cy="3236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4" descr=""/>
          <p:cNvPicPr/>
          <p:nvPr/>
        </p:nvPicPr>
        <p:blipFill>
          <a:blip r:embed="rId3"/>
          <a:stretch/>
        </p:blipFill>
        <p:spPr>
          <a:xfrm>
            <a:off x="3614760" y="1963800"/>
            <a:ext cx="379440" cy="3236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4" descr=""/>
          <p:cNvPicPr/>
          <p:nvPr/>
        </p:nvPicPr>
        <p:blipFill>
          <a:blip r:embed="rId4"/>
          <a:stretch/>
        </p:blipFill>
        <p:spPr>
          <a:xfrm>
            <a:off x="5805360" y="1971720"/>
            <a:ext cx="379440" cy="3236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4" descr=""/>
          <p:cNvPicPr/>
          <p:nvPr/>
        </p:nvPicPr>
        <p:blipFill>
          <a:blip r:embed="rId5"/>
          <a:stretch/>
        </p:blipFill>
        <p:spPr>
          <a:xfrm>
            <a:off x="7993080" y="1974960"/>
            <a:ext cx="379440" cy="3236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4" descr=""/>
          <p:cNvPicPr/>
          <p:nvPr/>
        </p:nvPicPr>
        <p:blipFill>
          <a:blip r:embed="rId6"/>
          <a:stretch/>
        </p:blipFill>
        <p:spPr>
          <a:xfrm>
            <a:off x="1554120" y="2371680"/>
            <a:ext cx="379440" cy="32400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4" descr=""/>
          <p:cNvPicPr/>
          <p:nvPr/>
        </p:nvPicPr>
        <p:blipFill>
          <a:blip r:embed="rId7"/>
          <a:stretch/>
        </p:blipFill>
        <p:spPr>
          <a:xfrm>
            <a:off x="3614760" y="2362320"/>
            <a:ext cx="379440" cy="3236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4" descr=""/>
          <p:cNvPicPr/>
          <p:nvPr/>
        </p:nvPicPr>
        <p:blipFill>
          <a:blip r:embed="rId8"/>
          <a:stretch/>
        </p:blipFill>
        <p:spPr>
          <a:xfrm>
            <a:off x="5805360" y="2371680"/>
            <a:ext cx="379440" cy="32400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4" descr=""/>
          <p:cNvPicPr/>
          <p:nvPr/>
        </p:nvPicPr>
        <p:blipFill>
          <a:blip r:embed="rId9"/>
          <a:stretch/>
        </p:blipFill>
        <p:spPr>
          <a:xfrm>
            <a:off x="8121600" y="2373480"/>
            <a:ext cx="379440" cy="3236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3" descr=""/>
          <p:cNvPicPr/>
          <p:nvPr/>
        </p:nvPicPr>
        <p:blipFill>
          <a:blip r:embed="rId10"/>
          <a:stretch/>
        </p:blipFill>
        <p:spPr>
          <a:xfrm>
            <a:off x="4778280" y="4143240"/>
            <a:ext cx="2886120" cy="41940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4" descr=""/>
          <p:cNvPicPr/>
          <p:nvPr/>
        </p:nvPicPr>
        <p:blipFill>
          <a:blip r:embed="rId11"/>
          <a:stretch/>
        </p:blipFill>
        <p:spPr>
          <a:xfrm>
            <a:off x="428760" y="5202360"/>
            <a:ext cx="2571480" cy="3236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4" descr=""/>
          <p:cNvPicPr/>
          <p:nvPr/>
        </p:nvPicPr>
        <p:blipFill>
          <a:blip r:embed="rId12"/>
          <a:stretch/>
        </p:blipFill>
        <p:spPr>
          <a:xfrm>
            <a:off x="428760" y="5613480"/>
            <a:ext cx="2571480" cy="32364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4" descr=""/>
          <p:cNvPicPr/>
          <p:nvPr/>
        </p:nvPicPr>
        <p:blipFill>
          <a:blip r:embed="rId13"/>
          <a:stretch/>
        </p:blipFill>
        <p:spPr>
          <a:xfrm>
            <a:off x="500040" y="6041880"/>
            <a:ext cx="2571840" cy="3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2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5" name="Picture 1" descr=""/>
          <p:cNvPicPr/>
          <p:nvPr/>
        </p:nvPicPr>
        <p:blipFill>
          <a:blip r:embed="rId1"/>
          <a:stretch/>
        </p:blipFill>
        <p:spPr>
          <a:xfrm>
            <a:off x="352440" y="1228680"/>
            <a:ext cx="8439120" cy="505800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2" descr=""/>
          <p:cNvPicPr/>
          <p:nvPr/>
        </p:nvPicPr>
        <p:blipFill>
          <a:blip r:embed="rId2"/>
          <a:stretch/>
        </p:blipFill>
        <p:spPr>
          <a:xfrm>
            <a:off x="357120" y="6000840"/>
            <a:ext cx="3143160" cy="37152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3" descr=""/>
          <p:cNvPicPr/>
          <p:nvPr/>
        </p:nvPicPr>
        <p:blipFill>
          <a:blip r:embed="rId3"/>
          <a:stretch/>
        </p:blipFill>
        <p:spPr>
          <a:xfrm>
            <a:off x="2803680" y="3571920"/>
            <a:ext cx="2885760" cy="41904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3" descr=""/>
          <p:cNvPicPr/>
          <p:nvPr/>
        </p:nvPicPr>
        <p:blipFill>
          <a:blip r:embed="rId4"/>
          <a:stretch/>
        </p:blipFill>
        <p:spPr>
          <a:xfrm>
            <a:off x="1143000" y="5483160"/>
            <a:ext cx="2886120" cy="41904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4" descr=""/>
          <p:cNvPicPr/>
          <p:nvPr/>
        </p:nvPicPr>
        <p:blipFill>
          <a:blip r:embed="rId5"/>
          <a:stretch/>
        </p:blipFill>
        <p:spPr>
          <a:xfrm>
            <a:off x="2500200" y="4643280"/>
            <a:ext cx="379440" cy="3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2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2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Picture 1" descr=""/>
          <p:cNvPicPr/>
          <p:nvPr/>
        </p:nvPicPr>
        <p:blipFill>
          <a:blip r:embed="rId1"/>
          <a:stretch/>
        </p:blipFill>
        <p:spPr>
          <a:xfrm>
            <a:off x="371520" y="2681280"/>
            <a:ext cx="8400960" cy="149544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2" descr=""/>
          <p:cNvPicPr/>
          <p:nvPr/>
        </p:nvPicPr>
        <p:blipFill>
          <a:blip r:embed="rId2"/>
          <a:stretch/>
        </p:blipFill>
        <p:spPr>
          <a:xfrm>
            <a:off x="4500720" y="2490840"/>
            <a:ext cx="4410000" cy="43812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4" descr=""/>
          <p:cNvPicPr/>
          <p:nvPr/>
        </p:nvPicPr>
        <p:blipFill>
          <a:blip r:embed="rId3"/>
          <a:stretch/>
        </p:blipFill>
        <p:spPr>
          <a:xfrm>
            <a:off x="1857240" y="3268800"/>
            <a:ext cx="243000" cy="28728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4" descr=""/>
          <p:cNvPicPr/>
          <p:nvPr/>
        </p:nvPicPr>
        <p:blipFill>
          <a:blip r:embed="rId4"/>
          <a:stretch/>
        </p:blipFill>
        <p:spPr>
          <a:xfrm>
            <a:off x="4508640" y="3268800"/>
            <a:ext cx="242640" cy="28728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4" descr=""/>
          <p:cNvPicPr/>
          <p:nvPr/>
        </p:nvPicPr>
        <p:blipFill>
          <a:blip r:embed="rId5"/>
          <a:stretch/>
        </p:blipFill>
        <p:spPr>
          <a:xfrm>
            <a:off x="7172280" y="3268800"/>
            <a:ext cx="241200" cy="28728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4" descr=""/>
          <p:cNvPicPr/>
          <p:nvPr/>
        </p:nvPicPr>
        <p:blipFill>
          <a:blip r:embed="rId6"/>
          <a:stretch/>
        </p:blipFill>
        <p:spPr>
          <a:xfrm>
            <a:off x="1357200" y="3832200"/>
            <a:ext cx="243000" cy="28728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4" descr=""/>
          <p:cNvPicPr/>
          <p:nvPr/>
        </p:nvPicPr>
        <p:blipFill>
          <a:blip r:embed="rId7"/>
          <a:stretch/>
        </p:blipFill>
        <p:spPr>
          <a:xfrm>
            <a:off x="2000160" y="3821040"/>
            <a:ext cx="243000" cy="28728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4" descr=""/>
          <p:cNvPicPr/>
          <p:nvPr/>
        </p:nvPicPr>
        <p:blipFill>
          <a:blip r:embed="rId8"/>
          <a:stretch/>
        </p:blipFill>
        <p:spPr>
          <a:xfrm>
            <a:off x="4498920" y="3819600"/>
            <a:ext cx="241200" cy="28728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4" descr=""/>
          <p:cNvPicPr/>
          <p:nvPr/>
        </p:nvPicPr>
        <p:blipFill>
          <a:blip r:embed="rId9"/>
          <a:stretch/>
        </p:blipFill>
        <p:spPr>
          <a:xfrm>
            <a:off x="6643800" y="3819600"/>
            <a:ext cx="285480" cy="28728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4" descr=""/>
          <p:cNvPicPr/>
          <p:nvPr/>
        </p:nvPicPr>
        <p:blipFill>
          <a:blip r:embed="rId10"/>
          <a:stretch/>
        </p:blipFill>
        <p:spPr>
          <a:xfrm>
            <a:off x="7311960" y="3832200"/>
            <a:ext cx="24300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7T07:07:02Z</dcterms:modified>
  <cp:revision>4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